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33EA-7352-48D9-8718-C1C2AABB8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7A90-8723-4DCF-B9AF-489E301ED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593C-38BB-4746-A36F-1F73A6DCE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E3B0-F613-4649-8FF8-1306D792D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9DDD2-122C-4BBF-9760-BF3FEE7F85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Serpenti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3BF9-5BEC-4BD0-A0EA-3F65D10B20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5C9E-5D99-4565-87A2-A4CD1FDC84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F81B-27BC-4014-8050-B31A18DA92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061F-473B-4492-AA92-712AA4DD15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66680" y="37116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Serpenti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E60C-E8CF-40D6-9226-90DB2B5205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8DCD-7DB4-46C4-A0BA-5481555EBF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Serpenti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67EE-F8C3-4B17-AAB0-6B5A7EF88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25ED-CCD7-40D1-AC3F-7BD597ECCE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9217-AE25-44E1-AB41-60DC6F4888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99F1-EA88-4478-BDAE-F427A19834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AA61-B90A-4893-8552-EAEC9C8CAD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7FC4-511E-4841-B7CE-C6A6ED659B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449C-345F-4C5B-90A8-894E11F72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4F2F-BA1E-4098-A54E-0471F41CE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C1BC-94FD-42A6-A132-C41F5D7A1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7116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Serpenti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D483-7618-4BED-A495-3BCDCB52F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9768-E075-430B-AD9A-73FE99472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F910-7BD2-4D95-B0BC-DD21145C4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5AD5-02FF-4B37-9AF4-1C3FE66EB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41480" cy="184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4400" y="461880"/>
            <a:ext cx="1062000" cy="10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emir_curtain" descr=""/>
          <p:cNvPicPr/>
          <p:nvPr/>
        </p:nvPicPr>
        <p:blipFill>
          <a:blip r:embed="rId2"/>
          <a:srcRect l="10925" t="0" r="0" b="6250"/>
          <a:stretch/>
        </p:blipFill>
        <p:spPr>
          <a:xfrm>
            <a:off x="0" y="47242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B293-4D77-4E39-8DA8-D23798686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95440" y="6491160"/>
            <a:ext cx="36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stituto de Astrofísica de Can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277F-B61D-4FEC-B831-B60FCCC63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685800" y="6476400"/>
            <a:ext cx="8458200" cy="75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pic>
        <p:nvPicPr>
          <p:cNvPr id="9" name="logoiac100" descr=""/>
          <p:cNvPicPr/>
          <p:nvPr/>
        </p:nvPicPr>
        <p:blipFill>
          <a:blip r:embed="rId3"/>
          <a:stretch/>
        </p:blipFill>
        <p:spPr>
          <a:xfrm>
            <a:off x="8186760" y="618156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09480" y="6248520"/>
            <a:ext cx="3602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J. Bur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14400" y="1474920"/>
            <a:ext cx="8458200" cy="87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4"/>
          <a:srcRect l="0" t="0" r="0" b="1693"/>
          <a:stretch/>
        </p:blipFill>
        <p:spPr>
          <a:xfrm>
            <a:off x="0" y="571680"/>
            <a:ext cx="109548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OGOIAC300_CURTAIN_25b" descr=""/>
          <p:cNvPicPr/>
          <p:nvPr/>
        </p:nvPicPr>
        <p:blipFill>
          <a:blip r:embed="rId2"/>
          <a:srcRect l="3167" t="0" r="0" b="3065"/>
          <a:stretch/>
        </p:blipFill>
        <p:spPr>
          <a:xfrm>
            <a:off x="3200400" y="2590920"/>
            <a:ext cx="2743200" cy="262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1041480" cy="184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019B-2A97-44D0-A877-7BD9BF678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440" y="6491160"/>
            <a:ext cx="77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stituto de Astrofísica de Canarias                                                                               CDTI. 09 febrero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82CA-E402-4D81-BB8D-E871A8B6E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85800" y="6476400"/>
            <a:ext cx="8458200" cy="75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pic>
        <p:nvPicPr>
          <p:cNvPr id="56" name="logoiac100" descr=""/>
          <p:cNvPicPr/>
          <p:nvPr/>
        </p:nvPicPr>
        <p:blipFill>
          <a:blip r:embed="rId3"/>
          <a:stretch/>
        </p:blipFill>
        <p:spPr>
          <a:xfrm>
            <a:off x="8186760" y="618156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9360" y="461880"/>
            <a:ext cx="1062000" cy="10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248520"/>
            <a:ext cx="7620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JESÚS BURGOS MARTÍN                                          Oportunidades Tecnológicas e Industriales del E-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4400" y="1474920"/>
            <a:ext cx="8458200" cy="87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rcRect l="0" t="0" r="0" b="1693"/>
          <a:stretch/>
        </p:blipFill>
        <p:spPr>
          <a:xfrm>
            <a:off x="-14400" y="571680"/>
            <a:ext cx="1095480" cy="771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erpentine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Serpentin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Infraestructuras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de Investigación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en el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erpentine"/>
              </a:rPr>
              <a:t>Séptimo Programa Marco</a:t>
            </a:r>
            <a:endParaRPr b="0" lang="en-US" sz="2800" spc="-1" strike="noStrike">
              <a:solidFill>
                <a:srgbClr val="000099"/>
              </a:solidFill>
              <a:latin typeface="Serpentin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Serpentine"/>
              </a:rPr>
              <a:t>2007 - 2013</a:t>
            </a:r>
            <a:endParaRPr b="0" lang="en-US" sz="2800" spc="-1" strike="noStrike">
              <a:solidFill>
                <a:srgbClr val="000099"/>
              </a:solidFill>
              <a:latin typeface="Serpentin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66"/>
                </a:solidFill>
                <a:latin typeface="Serpentine"/>
              </a:rPr>
              <a:t>Apoyo a las nuevas RIs   I / II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809360"/>
            <a:ext cx="80773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udios de Diseñ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udios conceptuales para la construcción de nuevas infraestructuras o mejoras sustanciales de las ya existentes, con una clara dimensión europea e inter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través de convocatorias abiertas a                  todos los campos de la ciencia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oyo a la construcción de nuevas infraestructura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 mejoras sustanciales de las ya exist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e preparator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e de construc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9810200">
            <a:off x="6706440" y="3276360"/>
            <a:ext cx="1793880" cy="7038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70 M€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9764600">
            <a:off x="6629760" y="5409720"/>
            <a:ext cx="1623960" cy="7038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530 M€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8A1E-C51B-4B23-8DFF-9380D5B3C2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809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oyo durante la fase 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rincipalmente en base al trabajo desarrollado en el marco de ESFR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además) apoyo al RS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Risk-Sharing Finance Fac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ursos limitados para la fase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634000">
            <a:off x="7010280" y="2514600"/>
            <a:ext cx="1623960" cy="7038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230 M€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0697600">
            <a:off x="6400800" y="3805200"/>
            <a:ext cx="1623960" cy="70380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200 M€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682600">
            <a:off x="6310440" y="5304960"/>
            <a:ext cx="1623960" cy="703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100 M€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66"/>
                </a:solidFill>
                <a:latin typeface="Serpentine"/>
              </a:rPr>
              <a:t>Apoyo a las nuevas RIs  II / II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1595-51A1-43D2-8FA6-C6A0F9F132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Actividades de apoyo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arrollo de una política europea en materia de RIs y el desarrollo de la cooperación internacional. ER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oyo a los Puntos Nacionales de Contacto y a la coordinación de RIs en nuevas á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9810200">
            <a:off x="6172920" y="4952520"/>
            <a:ext cx="1690560" cy="7038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65 M€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2270-2511-47AB-B88B-E5056BD18D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Máximos porcentajes de financiación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574" t="26042" r="4688" b="25004"/>
          <a:stretch/>
        </p:blipFill>
        <p:spPr>
          <a:xfrm>
            <a:off x="457200" y="2286000"/>
            <a:ext cx="8001000" cy="32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EBF0-A657-43CA-AEDC-EBB65C04FD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Serpentine"/>
              </a:rPr>
              <a:t>RIs en resumen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47" name=""/>
          <p:cNvSpPr/>
          <p:nvPr/>
        </p:nvSpPr>
        <p:spPr>
          <a:xfrm>
            <a:off x="939960" y="2448000"/>
            <a:ext cx="3336840" cy="1536480"/>
          </a:xfrm>
          <a:prstGeom prst="rect">
            <a:avLst/>
          </a:prstGeom>
          <a:solidFill>
            <a:srgbClr val="39a8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39960" y="3960720"/>
            <a:ext cx="3336840" cy="1536840"/>
          </a:xfrm>
          <a:prstGeom prst="rect">
            <a:avLst/>
          </a:prstGeom>
          <a:solidFill>
            <a:srgbClr val="39a8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0" y="2424240"/>
            <a:ext cx="3336840" cy="15364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37200" y="3960720"/>
            <a:ext cx="3336840" cy="15368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50760" y="2071800"/>
            <a:ext cx="3326040" cy="398880"/>
          </a:xfrm>
          <a:prstGeom prst="rect">
            <a:avLst/>
          </a:prstGeom>
          <a:solidFill>
            <a:srgbClr val="39a8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RIs exist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94280" y="3017880"/>
            <a:ext cx="36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Estud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37200" y="2071800"/>
            <a:ext cx="333684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RIs nue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1320" y="4233960"/>
            <a:ext cx="31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Construcción (fase preparatoria; construc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23840" y="3021120"/>
            <a:ext cx="31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Actividades Integ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0160" y="44514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Tahoma"/>
              </a:rPr>
              <a:t>e-infrastructu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50080" y="4195800"/>
            <a:ext cx="1317600" cy="826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ESFRI</a:t>
            </a:r>
            <a:br>
              <a:rPr sz="2000"/>
            </a:b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8340840" y="3019320"/>
            <a:ext cx="9360" cy="952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143480" y="4508640"/>
            <a:ext cx="677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88320" y="3019320"/>
            <a:ext cx="1352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50760" y="5497560"/>
            <a:ext cx="6623280" cy="604800"/>
          </a:xfrm>
          <a:prstGeom prst="rect">
            <a:avLst/>
          </a:prstGeom>
          <a:solidFill>
            <a:srgbClr val="2aa82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22400" y="5611680"/>
            <a:ext cx="64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Tahoma"/>
              </a:rPr>
              <a:t>Actuaciones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CD42-C54E-4180-AEEE-2255D39EC6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Serpentine"/>
              </a:rPr>
              <a:t>ELT en el FP7 – RIs   </a:t>
            </a:r>
            <a:r>
              <a:rPr b="0" i="1" lang="en-GB" sz="5400" spc="-1" strike="noStrike">
                <a:solidFill>
                  <a:srgbClr val="cc0000"/>
                </a:solidFill>
                <a:latin typeface="Arial Black"/>
              </a:rPr>
              <a:t>¿?</a:t>
            </a:r>
            <a:endParaRPr b="0" lang="en-US" sz="54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P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ELT Estudio de Diseño 2005 – 200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3: OPTICON 2004 –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P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000066"/>
                </a:solidFill>
                <a:latin typeface="Arial"/>
              </a:rPr>
              <a:t>RIs identificadas por el Roadmap de ESFRI no son en principio el objetivo de la convocatoria para Estudios de Diseño bajo el FP7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66"/>
                </a:solidFill>
                <a:latin typeface="Arial"/>
              </a:rPr>
              <a:t>ELT es elegible bajo la convocatoria de “Construcción – fase preparatoria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66"/>
                </a:solidFill>
                <a:latin typeface="Arial"/>
              </a:rPr>
              <a:t>Algunas actividades técnicas relacionadas con el ELT pueden ser contempladas bajo la nueva propuesta de OPTIC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ctividades de I+D conjunta y redes de coord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005B-37BF-4669-8D54-C9640D5F3A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Serpentine"/>
              </a:rPr>
              <a:t>ELT en el FP7 – RIs   </a:t>
            </a:r>
            <a:r>
              <a:rPr b="0" i="1" lang="en-GB" sz="5400" spc="-1" strike="noStrike">
                <a:solidFill>
                  <a:srgbClr val="cc0000"/>
                </a:solidFill>
                <a:latin typeface="Arial Black"/>
              </a:rPr>
              <a:t>¿?</a:t>
            </a:r>
            <a:endParaRPr b="0" lang="en-US" sz="54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809720"/>
            <a:ext cx="792468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7 – “Construcción – fase preparator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ivel 1 – apoyo durante la fase preparator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clusión de aspectos legales, de gestión y organización, et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201600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os paquetes de trabajo técnicos pueden ser considerados también (pero con mucho menos peso que bajo el FP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ivel 2 – apoyo durante la fase de construc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trucción, aspectos técnicos, legales, administrativos, 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nanciación concentrada principalmente en nivel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ribución en el rango 1-7 M€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ración típica de 1 a 4 añ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5FEB-101D-475D-BAF7-DD681C9E17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71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66"/>
                </a:solidFill>
                <a:latin typeface="Serpentine"/>
              </a:rPr>
              <a:t>RIs. Primera convocatoria 2007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5338" t="29168" r="4201" b="27583"/>
          <a:stretch/>
        </p:blipFill>
        <p:spPr>
          <a:xfrm>
            <a:off x="851040" y="3505320"/>
            <a:ext cx="7162560" cy="25686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7276" t="39583" r="14161" b="38544"/>
          <a:stretch/>
        </p:blipFill>
        <p:spPr>
          <a:xfrm>
            <a:off x="795240" y="1857240"/>
            <a:ext cx="7662960" cy="1600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08080" y="574668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34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4480" y="4622760"/>
            <a:ext cx="201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Todos – 34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4053-859E-48B9-9F51-C74D21349B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lum contrast="60000"/>
          </a:blip>
          <a:srcRect l="3876" t="16932" r="3249" b="30172"/>
          <a:stretch/>
        </p:blipFill>
        <p:spPr>
          <a:xfrm>
            <a:off x="760320" y="2208240"/>
            <a:ext cx="7763040" cy="3316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481120" y="2523960"/>
            <a:ext cx="838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Prioridades para próximas convocatorias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75" name=""/>
          <p:cNvSpPr/>
          <p:nvPr/>
        </p:nvSpPr>
        <p:spPr>
          <a:xfrm>
            <a:off x="2467080" y="24861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02 May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B300-DEB4-47F8-9B13-6B601A6068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Más información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809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P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http://cordis.europa.eu/fp7/home_en.htm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F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http://cordis.europa.eu/esfri/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raestructuras de Investigación en el FP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http://cordis.europa.eu/infrastructures/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nto Nacional de Contacto FP7 – R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María Victoria Ortega: victoria.ortega@mec.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9099-B602-414D-BD0C-CDA5EF18D1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FP7 en breve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09360"/>
            <a:ext cx="8153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rata del principal instrumento para la financiación de la investigación e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P7 cubrirá el periodo desde 2007 a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cciones financiadas bajo el FP7 podrán continuar más allá de esa fec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o: 54.582 M€ -  euro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 incremento del 63% frente al FP6 (€ actuale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la duración se ha incrementado de 5 a 7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P7 financia la investigación en áreas prioritarias seleccio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 grandes bloques + quinto programa específico sobre investigación nucl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B5CF-8488-4C39-811E-8ADDE3F137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42560" y="2136600"/>
            <a:ext cx="655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Jesús Burgos Mar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ITUTO DE ASTROFÍSICA DE CAN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/ Vía Láctea, s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8200 – La Lag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ail: jburgos@iac.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l: +34 922 605203        Fax: +34 922 605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3715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Gra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243A-595F-4B89-AF32-ADDD156002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Programas específicos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4094280"/>
            <a:ext cx="100800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801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440080"/>
            <a:ext cx="7627680" cy="350640"/>
          </a:xfrm>
          <a:prstGeom prst="flowChartAlternateProcess">
            <a:avLst/>
          </a:prstGeom>
          <a:solidFill>
            <a:srgbClr val="bdc7ad">
              <a:alpha val="50000"/>
            </a:srgbClr>
          </a:solidFill>
          <a:ln w="12600">
            <a:solidFill>
              <a:srgbClr val="0063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63a4"/>
                </a:solidFill>
                <a:latin typeface="Arial"/>
              </a:rPr>
              <a:t>Ideas</a:t>
            </a:r>
            <a:r>
              <a:rPr b="1" lang="en-GB" sz="2000" spc="-1" strike="noStrike">
                <a:solidFill>
                  <a:srgbClr val="0063a4"/>
                </a:solidFill>
                <a:latin typeface="Arial"/>
              </a:rPr>
              <a:t> – Frontie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505320"/>
            <a:ext cx="7627680" cy="369720"/>
          </a:xfrm>
          <a:prstGeom prst="flowChartAlternateProcess">
            <a:avLst/>
          </a:prstGeom>
          <a:solidFill>
            <a:srgbClr val="bdc7ad">
              <a:alpha val="50000"/>
            </a:srgbClr>
          </a:solidFill>
          <a:ln w="12600">
            <a:solidFill>
              <a:srgbClr val="0063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Capacidades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– Research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971800"/>
            <a:ext cx="7627680" cy="351000"/>
          </a:xfrm>
          <a:prstGeom prst="flowChartAlternateProcess">
            <a:avLst/>
          </a:prstGeom>
          <a:solidFill>
            <a:srgbClr val="bdc7ad">
              <a:alpha val="50000"/>
            </a:srgbClr>
          </a:solidFill>
          <a:ln w="12600">
            <a:solidFill>
              <a:srgbClr val="0063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63a4"/>
                </a:solidFill>
                <a:latin typeface="Arial"/>
              </a:rPr>
              <a:t>Gente</a:t>
            </a:r>
            <a:r>
              <a:rPr b="1" lang="en-GB" sz="2000" spc="-1" strike="noStrike">
                <a:solidFill>
                  <a:srgbClr val="0063a4"/>
                </a:solidFill>
                <a:latin typeface="Arial"/>
              </a:rPr>
              <a:t> – Marie Curi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916280"/>
            <a:ext cx="7627680" cy="369720"/>
          </a:xfrm>
          <a:prstGeom prst="flowChartAlternateProcess">
            <a:avLst/>
          </a:prstGeom>
          <a:solidFill>
            <a:srgbClr val="bdc7ad">
              <a:alpha val="50000"/>
            </a:srgbClr>
          </a:solidFill>
          <a:ln w="12600">
            <a:solidFill>
              <a:srgbClr val="0063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63a4"/>
                </a:solidFill>
                <a:latin typeface="Arial"/>
              </a:rPr>
              <a:t>Cooperación</a:t>
            </a:r>
            <a:r>
              <a:rPr b="1" lang="en-GB" sz="2000" spc="-1" strike="noStrike">
                <a:solidFill>
                  <a:srgbClr val="0063a4"/>
                </a:solidFill>
                <a:latin typeface="Arial"/>
              </a:rPr>
              <a:t> – Collaborativ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4495680"/>
            <a:ext cx="7627680" cy="349200"/>
          </a:xfrm>
          <a:prstGeom prst="flowChartAlternateProcess">
            <a:avLst/>
          </a:prstGeom>
          <a:solidFill>
            <a:srgbClr val="d9d9ff">
              <a:alpha val="50000"/>
            </a:srgbClr>
          </a:solidFill>
          <a:ln w="12600">
            <a:solidFill>
              <a:srgbClr val="006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3a4"/>
                </a:solidFill>
                <a:latin typeface="Arial"/>
              </a:rPr>
              <a:t>JRC non-nuclea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029200"/>
            <a:ext cx="7627680" cy="380880"/>
          </a:xfrm>
          <a:prstGeom prst="flowChartAlternateProcess">
            <a:avLst/>
          </a:prstGeom>
          <a:solidFill>
            <a:srgbClr val="d9d9ff">
              <a:alpha val="50000"/>
            </a:srgbClr>
          </a:solidFill>
          <a:ln w="12600">
            <a:solidFill>
              <a:srgbClr val="006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uratom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direct actions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63a4"/>
                </a:solidFill>
                <a:latin typeface="Arial"/>
              </a:rPr>
              <a:t>–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63a4"/>
                </a:solidFill>
                <a:latin typeface="Arial"/>
              </a:rPr>
              <a:t>JRC nuclea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594400"/>
            <a:ext cx="7627680" cy="380880"/>
          </a:xfrm>
          <a:prstGeom prst="flowChartAlternateProcess">
            <a:avLst/>
          </a:prstGeom>
          <a:solidFill>
            <a:srgbClr val="d9d9ff">
              <a:alpha val="50000"/>
            </a:srgbClr>
          </a:solidFill>
          <a:ln w="12600">
            <a:solidFill>
              <a:srgbClr val="006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63a4"/>
                </a:solidFill>
                <a:latin typeface="Arial"/>
              </a:rPr>
              <a:t>Euratom</a:t>
            </a:r>
            <a:r>
              <a:rPr b="1" lang="en-GB" sz="2000" spc="-1" strike="noStrike">
                <a:solidFill>
                  <a:srgbClr val="0063a4"/>
                </a:solidFill>
                <a:latin typeface="Arial"/>
              </a:rPr>
              <a:t> indirect actions – nuclear fusion and fission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04" idx="0"/>
          </p:cNvCxnSpPr>
          <p:nvPr/>
        </p:nvCxnSpPr>
        <p:spPr>
          <a:xfrm>
            <a:off x="4804920" y="2286000"/>
            <a:ext cx="1080" cy="154800"/>
          </a:xfrm>
          <a:prstGeom prst="straightConnector1">
            <a:avLst/>
          </a:prstGeom>
          <a:ln w="31680">
            <a:solidFill>
              <a:srgbClr val="0063a4"/>
            </a:solidFill>
            <a:miter/>
          </a:ln>
        </p:spPr>
      </p:cxnSp>
      <p:cxnSp>
        <p:nvCxnSpPr>
          <p:cNvPr id="112" name=""/>
          <p:cNvCxnSpPr>
            <a:stCxn id="104" idx="2"/>
            <a:endCxn id="106" idx="0"/>
          </p:cNvCxnSpPr>
          <p:nvPr/>
        </p:nvCxnSpPr>
        <p:spPr>
          <a:xfrm>
            <a:off x="4804920" y="2790360"/>
            <a:ext cx="1080" cy="181800"/>
          </a:xfrm>
          <a:prstGeom prst="straightConnector1">
            <a:avLst/>
          </a:prstGeom>
          <a:ln w="31680">
            <a:solidFill>
              <a:srgbClr val="0063a4"/>
            </a:solidFill>
            <a:miter/>
          </a:ln>
        </p:spPr>
      </p:cxnSp>
      <p:cxnSp>
        <p:nvCxnSpPr>
          <p:cNvPr id="113" name=""/>
          <p:cNvCxnSpPr/>
          <p:nvPr/>
        </p:nvCxnSpPr>
        <p:spPr>
          <a:xfrm>
            <a:off x="4800240" y="3322440"/>
            <a:ext cx="1080" cy="183240"/>
          </a:xfrm>
          <a:prstGeom prst="straightConnector1">
            <a:avLst/>
          </a:prstGeom>
          <a:ln w="31680">
            <a:solidFill>
              <a:srgbClr val="0063a4"/>
            </a:solidFill>
            <a:miter/>
          </a:ln>
        </p:spPr>
      </p:cxnSp>
      <p:cxnSp>
        <p:nvCxnSpPr>
          <p:cNvPr id="114" name=""/>
          <p:cNvCxnSpPr/>
          <p:nvPr/>
        </p:nvCxnSpPr>
        <p:spPr>
          <a:xfrm>
            <a:off x="4800240" y="4846320"/>
            <a:ext cx="1080" cy="183240"/>
          </a:xfrm>
          <a:prstGeom prst="straightConnector1">
            <a:avLst/>
          </a:prstGeom>
          <a:ln w="31680">
            <a:solidFill>
              <a:srgbClr val="0063a4"/>
            </a:solidFill>
            <a:miter/>
          </a:ln>
        </p:spPr>
      </p:cxnSp>
      <p:cxnSp>
        <p:nvCxnSpPr>
          <p:cNvPr id="115" name=""/>
          <p:cNvCxnSpPr/>
          <p:nvPr/>
        </p:nvCxnSpPr>
        <p:spPr>
          <a:xfrm>
            <a:off x="4800240" y="5409720"/>
            <a:ext cx="1080" cy="183240"/>
          </a:xfrm>
          <a:prstGeom prst="straightConnector1">
            <a:avLst/>
          </a:prstGeom>
          <a:ln w="31680">
            <a:solidFill>
              <a:srgbClr val="0063a4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13BC-9680-48D3-8CD5-DDAAC6924D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FP7. Presupuesto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71480" y="2033640"/>
          <a:ext cx="807732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2033640"/>
                    <a:ext cx="807732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BFA8-6BF8-4414-BEE7-D9F6CE966F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76560" y="3711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Capacidades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66800" y="1733400"/>
            <a:ext cx="477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66"/>
                </a:solidFill>
                <a:uFillTx/>
                <a:latin typeface="Arial"/>
              </a:rPr>
              <a:t>Infraestructuras de Inves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Investigación en beneficio de las PYM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Regiones del Conocimien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El potencial de investigación de las “Convergence Regions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Ciencia en la Socie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Desarrollo coherente de las políticas de investiga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Cooperación Internacio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1253" t="15627" r="30226" b="11414"/>
          <a:stretch/>
        </p:blipFill>
        <p:spPr>
          <a:xfrm>
            <a:off x="0" y="0"/>
            <a:ext cx="4827600" cy="68580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7E18-EA1A-46A9-A1FA-E379FB422A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Serpentine"/>
              </a:rPr>
              <a:t>Infraestructuras de Investigación. Objetivos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0936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r el uso y el desarrollo de las mejores infraestructuras existentes en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ir en el desarrollo de las nuevas grandes infraestructuras que precisa la comunidad científica europe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yudando a la industria a fortalecer su know-how tecnológic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yar la implementación del programa y el desarrollo de las políticas científicas en el campo de las infraestructuras de investi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7514-0467-4E13-8AF5-B7825F67BC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66"/>
                </a:solidFill>
                <a:latin typeface="Serpentine"/>
              </a:rPr>
              <a:t>RIs. Principales líneas de actuación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oyar y financiar las actividades de las infraestructuras de investigación 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oyar y financiar la creación de nuevas infraestru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O mejoras sustanciales de las ya existentes que a todos los efectos sea equivalente a una nueva infraestructu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oyar y financiar el desarrollo de políticas coherentes y la implementación del programa, incluyendo el apoyo a necesidades emerg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B731-07E3-4C2C-8624-71AC0563D5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Serpentine"/>
              </a:rPr>
              <a:t>ESFRI</a:t>
            </a:r>
            <a:br>
              <a:rPr sz="3600"/>
            </a:br>
            <a:r>
              <a:rPr b="0" i="1" lang="en-GB" sz="2800" spc="-1" strike="noStrike">
                <a:solidFill>
                  <a:srgbClr val="000066"/>
                </a:solidFill>
                <a:latin typeface="Serpentine"/>
              </a:rPr>
              <a:t>European Strategy Forum on RIs</a:t>
            </a:r>
            <a:endParaRPr b="0" lang="en-US" sz="28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66"/>
                </a:solidFill>
                <a:latin typeface="Arial"/>
              </a:rPr>
              <a:t>Representantes de los Estados Miembros y Estados Asociados (designados a nivel ministerial – Ciencia) y un representante de la Comisión Europea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oyar una política común y coherente sobre las grandes infraestructuras de investigación en Euro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uar como unidad efectiva de apoyo para negociaciones internacionales en torno a iniciativas concre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un “Roadmap” sobre las nuevas infraestructuras de interés Europeo para los próximos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34 nuevas infraestructuras forman parte ya de esa lista (ELT, SKA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EDEC-EE9C-4909-B403-F35B6F1882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71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66"/>
                </a:solidFill>
                <a:latin typeface="Serpentine"/>
              </a:rPr>
              <a:t>Apoyo a las RIs actuales</a:t>
            </a:r>
            <a:endParaRPr b="0" lang="en-US" sz="3600" spc="-1" strike="noStrike">
              <a:solidFill>
                <a:srgbClr val="000066"/>
              </a:solidFill>
              <a:latin typeface="Serpentin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es Integ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para promover un uso coherente                y un óptimo desarrollo de las infraestructuras de investigación en un determinado campo científic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-Infraestructuras basadas en TICs en apoyo de la investigación cientí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10200">
            <a:off x="7011000" y="2057040"/>
            <a:ext cx="1636920" cy="7038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580 M€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810200">
            <a:off x="6553440" y="5714640"/>
            <a:ext cx="1781280" cy="7038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Verdana"/>
              </a:rPr>
              <a:t>420 M€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3B97-CCBE-437D-ACA1-F3144BC464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2:53:35Z</dcterms:created>
  <dc:creator>jburgos</dc:creator>
  <dc:description/>
  <dc:language>en-US</dc:language>
  <cp:lastModifiedBy>jburgos</cp:lastModifiedBy>
  <dcterms:modified xsi:type="dcterms:W3CDTF">2007-02-08T23:56:35Z</dcterms:modified>
  <cp:revision>26</cp:revision>
  <dc:subject/>
  <dc:title>Research Infrastructures within</dc:title>
</cp:coreProperties>
</file>